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D0F-D62B-408A-9492-D7FA8A7B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8F7-E9F9-4FBC-86C7-6DCC96E1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4A2-8512-49AC-B1B9-13CFFBBF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FDCF-CD7D-4693-8399-BB476D3D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2A37-0A00-4637-B203-B4DF594A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475B-1A28-44B2-955E-5E2C19DD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E6B8-F384-4493-9965-FA8D3F0E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F06A-060A-4968-8798-A44A9424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AEE0-7218-4AC5-A94C-1B9DB11F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4A28-DDDA-47BF-A807-C40684DF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373C-25BF-473D-9845-9986563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975-9928-47EB-B598-453C27BD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187F-04DA-4800-9B2D-2C8DD7DC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505B-FD91-4D33-A74E-B7F7D4F5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0827-AF8C-4EC4-BFE6-108F41E6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ADD5-C9F1-4443-84DD-1AFD0296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4880-836E-489E-AE14-36F0EEF3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209-0B09-4C62-A470-59B43571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C58-90F6-420E-8391-01687136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684-61D3-4350-B945-60853648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BE7B-851D-45DA-A941-F103C16C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669-F59C-4DBE-BA4A-57A6321B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EF08-2D43-4A64-9A78-C1D93E8E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9B9-0D82-4A2D-857E-DCE7E7F9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C181-5F88-4E9F-9D70-0461E7D27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28F8-4CD4-4149-8B4A-1D444081D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MSTIA 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2520" y="15429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42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 Ta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7640" y="1542960"/>
            <a:ext cx="14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amp; Ani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38520" y="154296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ving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18760" y="163512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228600" y="1447920"/>
            <a:ext cx="891540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What is the purpose of using the corner resizing handles to resize a graphic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Calibri"/>
              </a:rPr>
              <a:t>To has access to Picture Tools while resizing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Calibri"/>
              </a:rPr>
              <a:t>.To resize and recolor the graphic simultaneousl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Calibri"/>
              </a:rPr>
              <a:t>.To incrementally resize the graphic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Calibri"/>
              </a:rPr>
              <a:t>.To proportionately resize the graphic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2286000" y="3013200"/>
            <a:ext cx="601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Calibri"/>
              </a:rPr>
              <a:t>To proportionately resize the graphic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09480" y="1981080"/>
            <a:ext cx="719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term refers to the size of the alphabetic and numeric characters on a sl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s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f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082880" y="2819520"/>
            <a:ext cx="323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Font siz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6920" y="1773360"/>
            <a:ext cx="894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Home Ribbon, which command is used to change the orientation of text in a text box to vertical, stacked or rota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f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dire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al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2286000" y="2819520"/>
            <a:ext cx="42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Dire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419040" y="1996920"/>
            <a:ext cx="790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 list on a slide must appear in sequential order, which list option should be selec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 l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ordered li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e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828800" y="220968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Numbering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990720" y="198108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ommand on the Home Ribbon enables a user to change the design of a slide after it has been inserted into a presentation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3072240" y="3105000"/>
            <a:ext cx="301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80880" y="1523880"/>
            <a:ext cx="8382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feature automatically revises the typing errors based upon information contained in MS Office 2010’s standard dictionar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fi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Corre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Sp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AutoTex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380880" y="1143000"/>
            <a:ext cx="83059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text alignment command aligns text with both the left and right margins of a slide including adding additional space between words as needed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f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f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ome T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855000" y="2724120"/>
            <a:ext cx="346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f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60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52440" y="1066680"/>
            <a:ext cx="863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f the following includes illustrations, movies, sounds, and stock photography stored in collections for easy access from both a user’s local machine and the Microsoft websi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y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290040" y="2590920"/>
            <a:ext cx="250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Clipar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380880" y="2041560"/>
            <a:ext cx="785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ommand is used to remove any unwanted parts of a picture in a sl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3515400" y="2271600"/>
            <a:ext cx="1857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p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380880" y="1762200"/>
            <a:ext cx="825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s an option offered on the Picture Tools Format Ribbon Color drop-down command for adjusting picture col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u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T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ma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sc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2574360" y="2478240"/>
            <a:ext cx="4022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Color Ton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685800" y="1954080"/>
            <a:ext cx="807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 graphic is selected, which option on the Shortcut menu is used to alter the color of the ima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 Pi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Pi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and Pos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 Pi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915560" y="3168720"/>
            <a:ext cx="518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Format Pictur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911600" y="3168720"/>
            <a:ext cx="437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utoCorrec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ctures/Anim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52280" y="1828800"/>
            <a:ext cx="883944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ommand enables a user to choose from a wide range of animation optio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tion P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gg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Ani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tion Pain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Pictures/Ani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990720" y="2303640"/>
            <a:ext cx="714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Animati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297000" y="1828800"/>
            <a:ext cx="8594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print setting creates printouts of an entire slide on the top of the page and an area for speaker notes below the sl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Page Sl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 P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o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652760" y="2144880"/>
            <a:ext cx="542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Notes Page 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58680" y="2057400"/>
            <a:ext cx="908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most common format that Microsoft uses for short sound clip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wa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mp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mp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wp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3057120" y="2130480"/>
            <a:ext cx="1787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.wav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96880" y="1828800"/>
            <a:ext cx="849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aving a presentation that will be exported to Microsoft Word 2010, which file type should be selec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ppt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pp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do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4045320" y="2666880"/>
            <a:ext cx="118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.rtf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380880" y="1219320"/>
            <a:ext cx="794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ype of presentation runs on its own but can also be set to accept user interventions to advance to another slide or return to a previous o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-running pres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rrated pres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S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d Slide S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64880" y="2101680"/>
            <a:ext cx="893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-running presentation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8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5800" y="1319040"/>
            <a:ext cx="777240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Which of the following refers to rearranging a multilevel list of text in an outline format by moving it from one level to another in the present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Promote and demo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Increase and decre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Grow and shr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Raise and l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380880" y="1143000"/>
            <a:ext cx="8102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ype of slide show is created to display only selected slides during a present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d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c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r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/Showing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2837520" y="2590920"/>
            <a:ext cx="34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380880" y="182880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visual effects in the form of movements from one slide to another during a presentation call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2448720" y="2286000"/>
            <a:ext cx="441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tion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685800" y="1066680"/>
            <a:ext cx="7961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area is used to specify the length of the transition effect for each slide in a present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hear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214080" y="2514600"/>
            <a:ext cx="26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Dur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3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990720" y="1371600"/>
            <a:ext cx="754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term refers to the small circles and squares that appear on each corner and side of an active text box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ment but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ing hand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but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ignment po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2616840" y="2209680"/>
            <a:ext cx="530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Sizing handles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764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380880" y="99684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PowerPoint 2010 Window, what is the name of the area that contains the zoom control and PowerPoint view butto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b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le b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oll b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s p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2155320" y="1981080"/>
            <a:ext cx="426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ba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418320" y="2550960"/>
            <a:ext cx="757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 and demot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228600" y="914400"/>
            <a:ext cx="869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the faint blue, dashed lines that appear as you drag an object toward a drawn shape when the edges or center of the object are align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 Gu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id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 Gu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 Gr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Mov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328400" y="2444760"/>
            <a:ext cx="629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Smart Guides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65240" y="800280"/>
            <a:ext cx="87627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name of the view in the File Tab that enables a user to manage files and data about files, and find frequently used features for managing PowerPoint presentation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is your team betting on this question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428280" y="243828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Backstag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5120" y="1295280"/>
            <a:ext cx="8958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include more text in a slide than will fit in the slide placeholder, which PowerPoint 2010 feature adjusts the line spacing and font size of the text to accommodate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S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Corr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F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En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04040" y="3168720"/>
            <a:ext cx="278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utoFit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44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80880" y="1295280"/>
            <a:ext cx="81536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f the following terms refers to combining multiple objects into a single objec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i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ust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mb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539720" y="2611440"/>
            <a:ext cx="311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Grouped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Paige Haney</cp:lastModifiedBy>
  <dcterms:modified xsi:type="dcterms:W3CDTF">2011-11-17T15:50:51Z</dcterms:modified>
  <cp:revision>151</cp:revision>
  <dc:subject/>
  <dc:title>Jeopardy</dc:title>
</cp:coreProperties>
</file>